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E990-2B0D-479F-9230-1305A54F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C667-3208-4896-9C82-13932F5A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2351-C08C-49B6-B43C-55953B11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65A7-2747-4C70-B1A6-B27FF048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F970-4B96-41E3-9928-1EF7152A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A29-DEED-410B-B7E4-ABA6CE86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EA2D-DFB0-4D15-8989-1BBC0025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F3D8-46A1-4B4A-B101-851EE742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EE27-E0B6-4EC2-A43C-B480AFFB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A547-BB80-4276-97AC-06F1FF71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E448-2126-4852-B7AC-688346D0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D023-324D-4AAF-A287-50A6DE0E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F9BA-E09F-4DA3-8F95-8BB818E72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533520"/>
          <a:ext cx="1828800" cy="5897520"/>
        </p:xfrm>
        <a:graphic>
          <a:graphicData uri="http://schemas.openxmlformats.org/drawingml/2006/table">
            <a:tbl>
              <a:tblPr/>
              <a:tblGrid>
                <a:gridCol w="1164960"/>
                <a:gridCol w="216000"/>
                <a:gridCol w="216000"/>
                <a:gridCol w="231840"/>
              </a:tblGrid>
              <a:tr h="275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ýden č.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6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íl                    </a:t>
                      </a:r>
                      <a:r>
                        <a:rPr b="0" lang="cs-CZ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kutečn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kt-užívání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teré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5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………………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šení   plac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zer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tá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hač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poručen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obní kontakt -Produk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obní kontakt - Prá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00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ískané kontakty Int/t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luvený kontakt Int/t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zh. Balík / mít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ledk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í distributoř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í Success build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í supervisoř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oobchod Body/zis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koobchod Body/zis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828800" y="533520"/>
          <a:ext cx="914400" cy="5897520"/>
        </p:xfrm>
        <a:graphic>
          <a:graphicData uri="http://schemas.openxmlformats.org/drawingml/2006/table">
            <a:tbl>
              <a:tblPr/>
              <a:tblGrid>
                <a:gridCol w="304920"/>
                <a:gridCol w="304560"/>
                <a:gridCol w="304920"/>
              </a:tblGrid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743200" y="533520"/>
          <a:ext cx="914400" cy="5897520"/>
        </p:xfrm>
        <a:graphic>
          <a:graphicData uri="http://schemas.openxmlformats.org/drawingml/2006/table">
            <a:tbl>
              <a:tblPr/>
              <a:tblGrid>
                <a:gridCol w="304920"/>
                <a:gridCol w="304560"/>
                <a:gridCol w="304920"/>
              </a:tblGrid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3657600" y="533520"/>
          <a:ext cx="914400" cy="5897520"/>
        </p:xfrm>
        <a:graphic>
          <a:graphicData uri="http://schemas.openxmlformats.org/drawingml/2006/table">
            <a:tbl>
              <a:tblPr/>
              <a:tblGrid>
                <a:gridCol w="304920"/>
                <a:gridCol w="304560"/>
                <a:gridCol w="304920"/>
              </a:tblGrid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572000" y="533520"/>
          <a:ext cx="914400" cy="5897520"/>
        </p:xfrm>
        <a:graphic>
          <a:graphicData uri="http://schemas.openxmlformats.org/drawingml/2006/table">
            <a:tbl>
              <a:tblPr/>
              <a:tblGrid>
                <a:gridCol w="304920"/>
                <a:gridCol w="304560"/>
                <a:gridCol w="304920"/>
              </a:tblGrid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5486400" y="533520"/>
          <a:ext cx="914400" cy="5897520"/>
        </p:xfrm>
        <a:graphic>
          <a:graphicData uri="http://schemas.openxmlformats.org/drawingml/2006/table">
            <a:tbl>
              <a:tblPr/>
              <a:tblGrid>
                <a:gridCol w="304920"/>
                <a:gridCol w="304560"/>
                <a:gridCol w="304920"/>
              </a:tblGrid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6400800" y="533520"/>
          <a:ext cx="914400" cy="5897520"/>
        </p:xfrm>
        <a:graphic>
          <a:graphicData uri="http://schemas.openxmlformats.org/drawingml/2006/table">
            <a:tbl>
              <a:tblPr/>
              <a:tblGrid>
                <a:gridCol w="304920"/>
                <a:gridCol w="304560"/>
                <a:gridCol w="304920"/>
              </a:tblGrid>
              <a:tr h="28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méno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7315200" y="533520"/>
          <a:ext cx="914400" cy="5897520"/>
        </p:xfrm>
        <a:graphic>
          <a:graphicData uri="http://schemas.openxmlformats.org/drawingml/2006/table">
            <a:tbl>
              <a:tblPr/>
              <a:tblGrid>
                <a:gridCol w="304920"/>
                <a:gridCol w="304560"/>
                <a:gridCol w="304920"/>
              </a:tblGrid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8229600" y="533520"/>
          <a:ext cx="838080" cy="5897520"/>
        </p:xfrm>
        <a:graphic>
          <a:graphicData uri="http://schemas.openxmlformats.org/drawingml/2006/table">
            <a:tbl>
              <a:tblPr/>
              <a:tblGrid>
                <a:gridCol w="304920"/>
                <a:gridCol w="304560"/>
                <a:gridCol w="228600"/>
              </a:tblGrid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1222200" y="0"/>
            <a:ext cx="71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ýdenní plán - Základní práce-plán č. 3  5 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9280" y="3724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92160" y="4410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040" y="5172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80880" y="83772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4572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měr registrace / maloobchod………………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21:52:20Z</dcterms:created>
  <dc:creator>Jiří Slavík</dc:creator>
  <dc:description/>
  <dc:language>en-US</dc:language>
  <cp:lastModifiedBy>Peter Sevela</cp:lastModifiedBy>
  <dcterms:modified xsi:type="dcterms:W3CDTF">2002-03-02T12:33:38Z</dcterms:modified>
  <cp:revision>5</cp:revision>
  <dc:subject/>
  <dc:title>Prezentace aplikace PowerPoint</dc:title>
</cp:coreProperties>
</file>